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E9B3-6757-4005-9F61-A3E353F4E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1FC0-255B-40DB-BC41-74E344C52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A240-1F92-49B4-927E-4D46311FE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3418-6046-4289-8672-6E7937E6C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BA5B3-75B7-4B84-80C4-FC1EE6D45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D9E8C-7A58-40EC-8078-DD2991B6C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DD0B1-17EA-4331-B8A5-D98FFA596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8231F-9803-42AE-BDB7-F059EC8F1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9048E-2910-4BBB-B608-BC9A9A482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ABA56-6935-439D-A021-CC2BB2D0D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C8DF9-7D4A-49E9-8204-573B58EA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D83C-73A0-4DAA-A305-D103E871A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5CF4B-842E-4E0F-A63C-A408026A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C994E-426A-4EEB-9930-D35FC039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F0F32-D570-4F9B-8FE2-75D46E981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2D005-BE2F-436F-90CC-9EACDD45C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809EB-71C5-48E0-ABEC-E2733E710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44D7-8942-4117-8B1E-E7DE05817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BBCB-485B-4435-8105-B59966241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16C8-99D9-48A3-B082-0D26AC826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8A30-26EE-4213-81EC-927C07221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F66C-CCD3-4E2C-B985-1AA6EC25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1D7C-032F-41B9-8C5D-655DFF5F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D14F-9B15-4164-A337-B82A07FB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CCD80-CB5D-414F-AC46-F356E1D8F1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819C8-D333-4999-87AA-42D4171C43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523880"/>
            <a:ext cx="8991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rt 15 do Código de Minera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t. 1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A autorização de pesquisa será outorgada pelo D.N.P.M. a brasileiros, pessoa natural, firma individual ou empresas legalmente habilitadas, mediante requerimento do interessad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arágrafo Único - Os trabalhos necessários à pesquisa serão executados sob a responsabilidade profissional de engenheiro de minas, ou de geólogo, habilitado ao exercício da profissã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2T21:59:55Z</dcterms:created>
  <dc:creator>Alexandre Braule</dc:creator>
  <dc:description/>
  <dc:language>en-US</dc:language>
  <cp:lastModifiedBy>Alexandre Braule</cp:lastModifiedBy>
  <dcterms:modified xsi:type="dcterms:W3CDTF">2004-08-11T12:39:13Z</dcterms:modified>
  <cp:revision>56</cp:revision>
  <dc:subject/>
  <dc:title>Apresentação do PowerPoint</dc:title>
</cp:coreProperties>
</file>